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394-729A-48F5-B882-44A01F8B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88E-0948-4C8A-9A8B-EFC955B8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D27-5DFF-41EC-A184-E999710B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9A0-98E0-42D2-97BA-8AA9541F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13A-665D-4975-B87A-8DDBE55C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74C-EB66-4151-9AF7-96BE6F9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FD93-713B-46A3-B7D0-5D6C862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53C1-BC83-4D74-BC9E-27AA4A83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B03-3405-4A16-8432-9C03F22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FA1B-6656-4073-835C-5D2112B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630A-6CED-458F-8FF5-03E1F88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D48-CED5-48BE-8241-68298F5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07B-405B-4568-91EE-ACBEA0A4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57E-7009-4077-8908-6302AB7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D4E5-1172-46EE-8723-30141416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3F7-5F45-4856-97CB-9F48ED2A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1E49-A9C2-4690-807F-455A619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447-A27B-47E8-9F11-8C406C43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4F6-47B5-45CD-AF56-1056FC0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704-BAB4-47A9-AE31-D97A7C8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B4F-EF6E-4FC9-A8FC-36EF837E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562-1585-4684-8DBA-50511F0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FA7-60D2-476F-BBC2-51CB90D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BD3-4B74-4DB9-A3F6-B1FB67D4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AF9-9F11-475D-B9C6-E7E1B7B83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B898-AD8C-4204-AD52-5A1437D02A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6200" y="456840"/>
            <a:ext cx="4417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6950"/>
                </a:solidFill>
                <a:latin typeface="Times New Roman"/>
              </a:rPr>
              <a:t>Old Englis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00600" y="2362320"/>
            <a:ext cx="3960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6950"/>
                </a:solidFill>
                <a:latin typeface="Times New Roman"/>
              </a:rPr>
              <a:t>The Origins of an Ever-Changing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’d think it was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Dollar Days” at Kma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76520" y="1905120"/>
            <a:ext cx="723888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Angles/Saxons invade from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Jutes move in from Den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at’s just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 century 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In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 centu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e Danes moved in,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Normans (from NORMANdy) took advantage of the situation and kicked all of their but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do we know all of thi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2743200"/>
            <a:ext cx="6248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Venerable Be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The Ecclesiastical History of the English 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05120" y="2743200"/>
            <a:ext cx="6248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~very little Celtic influence (only a few words still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1. Crag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2. Bi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3. Carr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4. Du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05120" y="251460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1. Crag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eep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2. Bi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3. Carr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4. Du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gray, d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28800" y="1208160"/>
            <a:ext cx="66294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~Lots of Latin fl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i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ys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t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etel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c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el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76520" y="1484280"/>
            <a:ext cx="64166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ise -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eas (pl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ys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t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etel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k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c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el - 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90920" y="1523880"/>
            <a:ext cx="4952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ligraph421 BT"/>
              </a:rPr>
              <a:t>Now, we borrow (steal?), create, and compound to create new words 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to the Literatur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Anglo-Saxo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Felt the need to protect home &amp;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Fame, success, and survival was dependent upon loyalty to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Very close quar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ytholog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Resembled Norse my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Didn’t believe in an after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lieved in warrio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Woden – god of death, poetry, and 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Thor/Thunor – god of thunder and ligh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lieved dragons protected tr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Important Values in a Hostile Worl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ravery, loyalty, generosity, 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More concerned with ethics than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"/>
          <p:cNvPicPr/>
          <p:nvPr/>
        </p:nvPicPr>
        <p:blipFill>
          <a:blip r:embed="rId1"/>
          <a:stretch/>
        </p:blipFill>
        <p:spPr>
          <a:xfrm>
            <a:off x="1219320" y="0"/>
            <a:ext cx="5246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65530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28"/>
          <p:cNvSpPr/>
          <p:nvPr/>
        </p:nvSpPr>
        <p:spPr>
          <a:xfrm>
            <a:off x="6629400" y="15238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ligraph421 BT"/>
              </a:rPr>
              <a:t>A Manuscript Page From Beowu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t’s important to stick together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ommunity halls offered shelter,                a meeting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came a place for story-t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did we get the storie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reating poetry was just as much respected as fighting, farming, or h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cops would recite poetry to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tories were spread through oral tra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Monasteries were centers for learning, so manuscripts were stor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Latin became language of learning; English was gaining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295280" y="17524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421 BT"/>
              </a:rPr>
              <a:t>Anglo-Saxon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95280" y="1219320"/>
            <a:ext cx="7848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ligraph421 BT"/>
              </a:rPr>
              <a:t>Modern English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Clash of words and cul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Change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Adoption of New Words  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371600" y="4800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o, what exactly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371600" y="533520"/>
            <a:ext cx="6858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ligraph421 BT"/>
              </a:rPr>
              <a:t>In the beginn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ligraph421 BT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-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 century – Celts called “Brythons” lived in Britain (guess where the name is deri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Celts’ were pagan, possessing beliefs in spirits and gods in every element of nature.  Their religion has been likened to that of animism or mytholog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447920" y="914400"/>
            <a:ext cx="6933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55 B.C.E. ~ The Romans inva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e Romans, led by none other than Julius Caesar, invade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European missionaries bring Christianity to the nation  (Guess what happened to the Anglo-Saxon relig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Romans built roads (still used today- amazing!), provided armies, and introduced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nd then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71600" y="2209680"/>
            <a:ext cx="7315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Romans went h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y had other business in which to tend, like protecting their own country in two other wars they were figh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ow wha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514600"/>
            <a:ext cx="6858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oor Britain…Left to fend for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No armies, no government, etc.  Romans took it with them when they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Uh, oh…that can only mea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imes New Roman"/>
              </a:rPr>
              <a:t>ATTACK!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76520" y="28954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421 BT"/>
              </a:rPr>
              <a:t>It couldn’t have been more ugl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3:06:03Z</dcterms:created>
  <dc:creator>Anthony</dc:creator>
  <dc:description/>
  <dc:language>en-US</dc:language>
  <cp:lastModifiedBy>lcipriano</cp:lastModifiedBy>
  <dcterms:modified xsi:type="dcterms:W3CDTF">2010-09-09T16:14:27Z</dcterms:modified>
  <cp:revision>11</cp:revision>
  <dc:subject/>
  <dc:title>Old English</dc:title>
</cp:coreProperties>
</file>